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64B-893F-4F94-B47E-C37476ECA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B32E-381C-43F1-B482-0FC7861B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 IR caused a need for land, land was taken away from ppl causing more povert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tle island, old fort, was first used for processing (1855-1890)  but by 1890 could not handle the large numbers coming in. Ellis island b/w 1892-1920 handled more than 23 million ppl Checked for trachoma (eye disease common in southern and eastern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s were often changed b/c officers mispronounced them or couldn’t understand or ppl willing changed them to sound more “American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7FF-BAE9-416B-811B-62D178D5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845-3164-4D69-8F77-8FDA861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4A2-454E-4CBF-AE9A-0C25A61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38C-7E8C-4061-AD98-C2E400C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6FD-321B-4AB0-AFB0-BD30313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829-67EE-4FFE-A845-80F365F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27D-D649-4494-B144-021345A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2B2-5B50-4F59-9265-F474361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DEC-69FA-43F9-AED2-7B98E34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146-49FB-4AB1-8F8E-DA19653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810-5E1E-4A52-8713-F38B8EC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A16-B007-491F-8F95-D9A1D30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752-5907-493A-9C49-712580D9D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Exclusion Act (18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tlemen’s Agreement (19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en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Angel-Island-Women-1"/>
          <p:cNvPicPr/>
          <p:nvPr/>
        </p:nvPicPr>
        <p:blipFill>
          <a:blip r:embed="rId1"/>
          <a:stretch/>
        </p:blipFill>
        <p:spPr>
          <a:xfrm>
            <a:off x="304920" y="3429000"/>
            <a:ext cx="3733560" cy="3218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153684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Angel Island Site: "/>
          <p:cNvPicPr/>
          <p:nvPr/>
        </p:nvPicPr>
        <p:blipFill>
          <a:blip r:embed="rId2"/>
          <a:stretch/>
        </p:blipFill>
        <p:spPr>
          <a:xfrm>
            <a:off x="380880" y="457200"/>
            <a:ext cx="3657600" cy="2570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4738680" y="380880"/>
            <a:ext cx="410976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 Island (San F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724280" y="137160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station in W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4720320" y="2362320"/>
            <a:ext cx="40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, crowded, p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ik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724280" y="3809880"/>
            <a:ext cx="411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seve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—longer time, har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8520" y="380880"/>
            <a:ext cx="26251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4480" y="1359000"/>
            <a:ext cx="7781040" cy="253116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iv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native born Americans belief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igration should be restricted and that jo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go to Am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based on racism,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feelings o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Xen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7560" y="4267080"/>
            <a:ext cx="655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hinese Exclusion Act (18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Gentleman’s Agreement (19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Racial conflicts across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064600" y="685800"/>
            <a:ext cx="501480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igration during the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76800" y="2849400"/>
            <a:ext cx="76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people leave their native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5280" y="4876920"/>
            <a:ext cx="67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“Americans” react to the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igr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71760" y="1905120"/>
            <a:ext cx="81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id people emigrate from during the 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5640" y="3886200"/>
            <a:ext cx="67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re the immigrants proce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immig_2"/>
          <p:cNvPicPr/>
          <p:nvPr/>
        </p:nvPicPr>
        <p:blipFill>
          <a:blip r:embed="rId1"/>
          <a:stretch/>
        </p:blipFill>
        <p:spPr>
          <a:xfrm>
            <a:off x="571680" y="-380880"/>
            <a:ext cx="830556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38680" y="228600"/>
            <a:ext cx="793476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Revolution Immigration—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4440" y="1219320"/>
            <a:ext cx="8053560" cy="5814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—1920:  20 million Europeans came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16360" y="1981080"/>
            <a:ext cx="792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= people who came before 1890, mos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estern &amp; North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3429000"/>
            <a:ext cx="497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= people who came after 1890, mostly from South &amp; East Europe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ellis-1"/>
          <p:cNvPicPr/>
          <p:nvPr/>
        </p:nvPicPr>
        <p:blipFill>
          <a:blip r:embed="rId1"/>
          <a:stretch/>
        </p:blipFill>
        <p:spPr>
          <a:xfrm>
            <a:off x="5029200" y="2666880"/>
            <a:ext cx="3886200" cy="2557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214200" y="520056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52280" y="5562720"/>
            <a:ext cx="8763120" cy="106884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—1920: 260,000 people from Latin Am and Caribb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076760" y="228600"/>
            <a:ext cx="622800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Emigration from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USAEireland2"/>
          <p:cNvPicPr/>
          <p:nvPr/>
        </p:nvPicPr>
        <p:blipFill>
          <a:blip r:embed="rId1"/>
          <a:stretch/>
        </p:blipFill>
        <p:spPr>
          <a:xfrm>
            <a:off x="304920" y="3733920"/>
            <a:ext cx="4267080" cy="2547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0240" y="1219320"/>
            <a:ext cx="50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came to US to esc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3240" y="1905120"/>
            <a:ext cx="378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poverty (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ish Fam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024160" y="1371600"/>
            <a:ext cx="40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any people,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ough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952160" y="2895480"/>
            <a:ext cx="34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gious/polit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 (ex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Je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181480" y="5029200"/>
            <a:ext cx="28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 mi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139480" y="228600"/>
            <a:ext cx="50011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 Immigration—We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42040" y="1143000"/>
            <a:ext cx="7081560" cy="5814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0—1883:  200,000 Asians came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22"/>
          <p:cNvPicPr/>
          <p:nvPr/>
        </p:nvPicPr>
        <p:blipFill>
          <a:blip r:embed="rId1"/>
          <a:stretch/>
        </p:blipFill>
        <p:spPr>
          <a:xfrm>
            <a:off x="4952880" y="2133720"/>
            <a:ext cx="3733920" cy="3713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76200" y="213372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 during California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h (184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2160" y="3657600"/>
            <a:ext cx="502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on Railroads an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owns in the W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70440" y="5181480"/>
            <a:ext cx="68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d discrimination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job competition and different cul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00200" y="380880"/>
            <a:ext cx="44845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coming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" y="1295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nd economic opportunities of the Industrial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-235080" y="31384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hance to own land in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760" y="2209680"/>
            <a:ext cx="57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ligious and political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lis2"/>
          <p:cNvPicPr/>
          <p:nvPr/>
        </p:nvPicPr>
        <p:blipFill>
          <a:blip r:embed="rId1"/>
          <a:stretch/>
        </p:blipFill>
        <p:spPr>
          <a:xfrm>
            <a:off x="6132600" y="2743200"/>
            <a:ext cx="26128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landrushimage7"/>
          <p:cNvPicPr/>
          <p:nvPr/>
        </p:nvPicPr>
        <p:blipFill>
          <a:blip r:embed="rId2"/>
          <a:stretch/>
        </p:blipFill>
        <p:spPr>
          <a:xfrm>
            <a:off x="990720" y="3886200"/>
            <a:ext cx="3962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74480" y="304920"/>
            <a:ext cx="325764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s Island (NY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ellis_island_l"/>
          <p:cNvPicPr/>
          <p:nvPr/>
        </p:nvPicPr>
        <p:blipFill>
          <a:blip r:embed="rId1"/>
          <a:stretch/>
        </p:blipFill>
        <p:spPr>
          <a:xfrm>
            <a:off x="4876920" y="30492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sset_upload_file427_12186"/>
          <p:cNvPicPr/>
          <p:nvPr/>
        </p:nvPicPr>
        <p:blipFill>
          <a:blip r:embed="rId2"/>
          <a:stretch/>
        </p:blipFill>
        <p:spPr>
          <a:xfrm>
            <a:off x="525780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a13599r"/>
          <p:cNvPicPr/>
          <p:nvPr/>
        </p:nvPicPr>
        <p:blipFill>
          <a:blip r:embed="rId3"/>
          <a:stretch/>
        </p:blipFill>
        <p:spPr>
          <a:xfrm>
            <a:off x="380880" y="3676680"/>
            <a:ext cx="396252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49400" y="1143000"/>
            <a:ext cx="46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station in 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6520" y="1676520"/>
            <a:ext cx="49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for disea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cy, ability to wor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0480" y="2849400"/>
            <a:ext cx="30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% turned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Ellis_Island_manifest_1913"/>
          <p:cNvPicPr/>
          <p:nvPr/>
        </p:nvPicPr>
        <p:blipFill>
          <a:blip r:embed="rId1"/>
          <a:stretch/>
        </p:blipFill>
        <p:spPr>
          <a:xfrm>
            <a:off x="490680" y="0"/>
            <a:ext cx="816264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34:47Z</dcterms:created>
  <dc:creator>Gateway </dc:creator>
  <dc:description/>
  <dc:language>en-US</dc:language>
  <cp:lastModifiedBy>Mark Greer</cp:lastModifiedBy>
  <cp:lastPrinted>2010-03-03T12:38:45Z</cp:lastPrinted>
  <dcterms:modified xsi:type="dcterms:W3CDTF">2010-10-20T02:25:15Z</dcterms:modified>
  <cp:revision>9</cp:revision>
  <dc:subject/>
  <dc:title>PowerPoint Presentation</dc:title>
</cp:coreProperties>
</file>